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B765-0858-41A6-A7D1-72A2F3EE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5BBE-2F2A-43BA-91C7-9220C8F6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2ED0-559B-4BED-9BDD-B2E8EB8D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1C3B-E200-4929-8F84-187CB58F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1DC5-5CBC-4F73-B834-6DD0651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6FEA-6852-48F8-B2CA-51A40F28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A75F-B22E-48E8-9040-82F686E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5F28-C4B8-46A2-8D07-B160B7D9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56B1-49AA-4105-B57A-7EE69A4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5305-B084-4568-BEDA-45237A3C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339B-FBAA-442E-81E2-B504F9D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ECFA-8B87-4D22-92DA-EEFF6E1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9EA-3F88-486D-8169-14457862EA7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Mẫu Slide PowerPoi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451640" y="1803240"/>
            <a:ext cx="1224000" cy="126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185184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faf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7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01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2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3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4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06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9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0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1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2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3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4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5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3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4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4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64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65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6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7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8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69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0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1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72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8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7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8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38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9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9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0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3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4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6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10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2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3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4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15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1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7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23" name="Freeform 4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4" name="Freeform 5"/>
            <p:cNvSpPr/>
            <p:nvPr/>
          </p:nvSpPr>
          <p:spPr>
            <a:xfrm rot="7200000">
              <a:off x="4398480" y="204408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5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26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8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9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0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31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3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35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6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37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5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47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8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9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50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1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2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3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54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55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6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8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9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0" name="Rectangle 20"/>
            <p:cNvSpPr/>
            <p:nvPr/>
          </p:nvSpPr>
          <p:spPr>
            <a:xfrm rot="3418800">
              <a:off x="4596120" y="2010600"/>
              <a:ext cx="873000" cy="96840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1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62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3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4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67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8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9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0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2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3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4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89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90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2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3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9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9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03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4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rc 7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rc 9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1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3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4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7" name="Arc 18"/>
            <p:cNvSpPr/>
            <p:nvPr/>
          </p:nvSpPr>
          <p:spPr>
            <a:xfrm rot="20539200">
              <a:off x="4419720" y="28954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9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2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27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28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29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30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1"/>
              <p:cNvSpPr/>
              <p:nvPr/>
            </p:nvSpPr>
            <p:spPr>
              <a:xfrm>
                <a:off x="107280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3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34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35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994480" y="42796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38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9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0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41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42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5051880" y="423540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44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45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47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48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49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2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41"/>
          <p:cNvSpPr/>
          <p:nvPr/>
        </p:nvSpPr>
        <p:spPr>
          <a:xfrm rot="5400000">
            <a:off x="-2249280" y="1626840"/>
            <a:ext cx="4824360" cy="477072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720"/>
              <a:gd name="textAreaBottom" fmla="*/ 3009960 h 4770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3" name="AutoShape 42"/>
          <p:cNvSpPr/>
          <p:nvPr/>
        </p:nvSpPr>
        <p:spPr>
          <a:xfrm flipH="1" rot="5400000">
            <a:off x="-1843920" y="2062440"/>
            <a:ext cx="4032360" cy="3929040"/>
          </a:xfrm>
          <a:custGeom>
            <a:avLst/>
            <a:gdLst>
              <a:gd name="textAreaLeft" fmla="*/ -360 w 4032360"/>
              <a:gd name="textAreaRight" fmla="*/ 403236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09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0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1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1"/>
            <p:cNvSpPr/>
            <p:nvPr/>
          </p:nvSpPr>
          <p:spPr>
            <a:xfrm>
              <a:off x="1661760" y="210312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3"/>
            <p:cNvSpPr/>
            <p:nvPr/>
          </p:nvSpPr>
          <p:spPr>
            <a:xfrm>
              <a:off x="168120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6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7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8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8"/>
            <p:cNvSpPr/>
            <p:nvPr/>
          </p:nvSpPr>
          <p:spPr>
            <a:xfrm>
              <a:off x="2195280" y="28904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60"/>
            <p:cNvSpPr/>
            <p:nvPr/>
          </p:nvSpPr>
          <p:spPr>
            <a:xfrm>
              <a:off x="22143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3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4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5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5"/>
            <p:cNvSpPr/>
            <p:nvPr/>
          </p:nvSpPr>
          <p:spPr>
            <a:xfrm>
              <a:off x="2347560" y="37288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7"/>
            <p:cNvSpPr/>
            <p:nvPr/>
          </p:nvSpPr>
          <p:spPr>
            <a:xfrm>
              <a:off x="236700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1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2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2"/>
            <p:cNvSpPr/>
            <p:nvPr/>
          </p:nvSpPr>
          <p:spPr>
            <a:xfrm>
              <a:off x="2195280" y="4566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4"/>
            <p:cNvSpPr/>
            <p:nvPr/>
          </p:nvSpPr>
          <p:spPr>
            <a:xfrm>
              <a:off x="22143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7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8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9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173484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1"/>
            <p:cNvSpPr/>
            <p:nvPr/>
          </p:nvSpPr>
          <p:spPr>
            <a:xfrm>
              <a:off x="175428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3780000" y="184464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4f86"/>
                </a:solidFill>
                <a:latin typeface="Arial"/>
              </a:rPr>
              <a:t>http://blogcongdong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5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3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4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87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8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9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2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3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4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5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6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97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198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1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2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8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AutoShape 19"/>
            <p:cNvSpPr/>
            <p:nvPr/>
          </p:nvSpPr>
          <p:spPr>
            <a:xfrm>
              <a:off x="3125520" y="5288760"/>
              <a:ext cx="281628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9240" y="2209680"/>
              <a:ext cx="2900160" cy="2705400"/>
              <a:chOff x="3009240" y="2209680"/>
              <a:chExt cx="2900160" cy="270540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800" y="3259080"/>
                <a:ext cx="4604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2120" y="3209400"/>
                <a:ext cx="458640" cy="2959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5040" y="4609440"/>
                <a:ext cx="44316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160" y="2209680"/>
                <a:ext cx="23234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7640" y="2345040"/>
                <a:ext cx="20574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040" y="2471040"/>
                <a:ext cx="181404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54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120" y="259596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120" y="2594520"/>
                <a:ext cx="157680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68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9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0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2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4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5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28:43Z</dcterms:created>
  <dc:creator>Admin</dc:creator>
  <dc:description/>
  <dc:language>en-US</dc:language>
  <cp:lastModifiedBy>Nga</cp:lastModifiedBy>
  <dcterms:modified xsi:type="dcterms:W3CDTF">2017-09-15T08:57:16Z</dcterms:modified>
  <cp:revision>3</cp:revision>
  <dc:subject/>
  <dc:title>PowerPoint Template</dc:title>
</cp:coreProperties>
</file>